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536-FE8D-4916-8891-B90C8A6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F85-9EFD-4AD5-986D-F5A7646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754-B3C0-4413-B708-0710A10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57F-0842-4650-A8C2-17F8DB77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3CC-C488-4401-B848-614EA89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38F6-519C-4028-B39F-7CC07F29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AAD-A625-47BA-99F1-940413C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30F-BC84-4D39-9CC2-961C09F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EFE0-DAD9-412B-ABE8-1D45A57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4FD-9C35-4501-8D16-1B1DB0F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0937-4867-47FA-B44F-D26626F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C2E-5B4F-4EF9-8E83-E500C8E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16A-1F52-4C3B-957B-A6897A3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C0F-D808-42F2-B893-0DC49B62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B9D-14E4-4FC4-ABA4-ED9E26BB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B4E2-136B-42DB-AF2D-DD76730A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AB6F-1A35-4536-9EE9-1B542F83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365-6DA0-48AE-B344-483C9E2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49E-1C5D-4148-95F7-A5E1667E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D4D-DDC5-45D9-8896-3864B3C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9F3-81AB-4D83-9B52-4A136BEC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59E-278B-4916-9AC6-9B1130AF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121-E760-4899-A544-F97FB01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231-AC74-4A83-AAAA-36B7B8E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F76-1F2B-4BCB-A957-E26C80DA3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D3C-38B7-410B-B25F-DD0734A53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лшебная страна звуков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 гостях у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285840" y="428760"/>
            <a:ext cx="81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III методический конкурс 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продуктов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заика презент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5580000" y="464328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паева Ольга Юр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СОШ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еж,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тепиано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:\АРХИВ УРОКОВ\АРХИВ УРОКОВ 2021-2022\7 УРОК\1 класс\пианино .jpg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507204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л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:\АРХИВ УРОКОВ\миша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14880" cy="545796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87" name="Picture 7" descr="D:\АРХИВ УРОКОВ\_DSC0287_1.jpg"/>
          <p:cNvPicPr/>
          <p:nvPr/>
        </p:nvPicPr>
        <p:blipFill>
          <a:blip r:embed="rId2"/>
          <a:stretch/>
        </p:blipFill>
        <p:spPr>
          <a:xfrm>
            <a:off x="428760" y="928800"/>
            <a:ext cx="37861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создания</a:t>
            </a:r>
            <a:br>
              <a:rPr sz="11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шкатулки появились лишь в конце XIX века в Швейцарии. Женевский часовщик Антуан Фавр в 1796 году изобрел уникальный музыкальный механизм, который поместили в шкатулку. Вскоре эти изысканные игрушки обрели свою популярность и стали самыми желанными подарками для юных барышень. Каких только не придумывали музыкальных шкатулок: шкатулки с поющими птичками, с танцующими фигурками, с вращающимися картинками и т.д. </a:t>
            </a: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0" descr="D:\АРХИВ УРОКОВ\O1CN01kU8pPR1ivav4BmF1Z_!!334884475.gif"/>
          <p:cNvPicPr/>
          <p:nvPr/>
        </p:nvPicPr>
        <p:blipFill>
          <a:blip r:embed="rId1"/>
          <a:srcRect l="0" t="16464" r="0" b="11788"/>
          <a:stretch/>
        </p:blipFill>
        <p:spPr>
          <a:xfrm>
            <a:off x="785880" y="3643200"/>
            <a:ext cx="4038480" cy="28576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90" name="Picture 4" descr="D:\АРХИВ УРОКОВ\images.jpg"/>
          <p:cNvPicPr/>
          <p:nvPr/>
        </p:nvPicPr>
        <p:blipFill>
          <a:blip r:embed="rId2"/>
          <a:stretch/>
        </p:blipFill>
        <p:spPr>
          <a:xfrm>
            <a:off x="5572080" y="3643200"/>
            <a:ext cx="3071880" cy="27860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571320"/>
            <a:ext cx="43578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тулки были разных размеров: и огромные (размером со шкаф) и совсем крошечные. Чем больше была шкатулка, тем звонче и приятней звучала мело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большие шкатулки могли проигрывать поочередно от четырех до восьми мелодий. Уже в 1815 году в той же Швейцарии был открыт первый завод по производству музыкальных шкату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:\АРХИВ УРОКОВ\1559757808120276651.jpg"/>
          <p:cNvPicPr/>
          <p:nvPr/>
        </p:nvPicPr>
        <p:blipFill>
          <a:blip r:embed="rId1"/>
          <a:stretch/>
        </p:blipFill>
        <p:spPr>
          <a:xfrm>
            <a:off x="428760" y="642960"/>
            <a:ext cx="4500360" cy="5857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5804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ЛЬНЫЕ ШКАТУ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168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ей популярностью стали пользоваться шкатулки с движущимися фигурками – это были и балерины, кружащиеся под восхитительную музыку, и оркестры, играющие завораживающие рит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АРХИВ УРОКОВ\музык шк.jpg"/>
          <p:cNvPicPr/>
          <p:nvPr/>
        </p:nvPicPr>
        <p:blipFill>
          <a:blip r:embed="rId1"/>
          <a:stretch/>
        </p:blipFill>
        <p:spPr>
          <a:xfrm>
            <a:off x="285840" y="1571760"/>
            <a:ext cx="5072040" cy="488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285480"/>
            <a:ext cx="50720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льные шкатулки — это сложный музыкальный инструмент, многие детали изготавливаются вручную, например, калки цилиндра, которые являются своеобразным нотным листо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АРХИВ УРОКОВ\280px-Spieldose.jpg"/>
          <p:cNvPicPr/>
          <p:nvPr/>
        </p:nvPicPr>
        <p:blipFill>
          <a:blip r:embed="rId1"/>
          <a:stretch/>
        </p:blipFill>
        <p:spPr>
          <a:xfrm>
            <a:off x="642960" y="46432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РХИВ УРОКОВ\images (1).jpg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182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D:\АРХИВ УРОКОВ\mqdefault.jpg"/>
          <p:cNvPicPr/>
          <p:nvPr/>
        </p:nvPicPr>
        <p:blipFill>
          <a:blip r:embed="rId3"/>
          <a:stretch/>
        </p:blipFill>
        <p:spPr>
          <a:xfrm>
            <a:off x="642960" y="42876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АРХИВ УРОКОВ\шкатулка.jpg"/>
          <p:cNvPicPr/>
          <p:nvPr/>
        </p:nvPicPr>
        <p:blipFill>
          <a:blip r:embed="rId1"/>
          <a:stretch/>
        </p:blipFill>
        <p:spPr>
          <a:xfrm>
            <a:off x="285840" y="1714680"/>
            <a:ext cx="8572320" cy="462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тулка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0" t="0" r="0" b="17894"/>
          <a:stretch/>
        </p:blipFill>
        <p:spPr>
          <a:xfrm>
            <a:off x="357120" y="620640"/>
            <a:ext cx="45007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35120" y="53928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К. Л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204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абакер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для фортепи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вящена сыну композитора М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ая табак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1285920"/>
            <a:ext cx="4714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велир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подар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это и хотел отразить в своей пьесе Анатолий Ля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ешь пьесу - и представляется коробочка, золотая или серебряная, с узором, портретом или розой. Так и хочется узнать, а что же там внутри - мармелад, или колечко с камушко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ожет, жемчужинк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D:\АРХИВ УРОКОВ\табакереа.jpg"/>
          <p:cNvPicPr/>
          <p:nvPr/>
        </p:nvPicPr>
        <p:blipFill>
          <a:blip r:embed="rId1"/>
          <a:stretch/>
        </p:blipFill>
        <p:spPr>
          <a:xfrm>
            <a:off x="357120" y="1643040"/>
            <a:ext cx="4038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6:31:32Z</dcterms:created>
  <dc:creator>901</dc:creator>
  <dc:description/>
  <dc:language>en-US</dc:language>
  <cp:lastModifiedBy>User</cp:lastModifiedBy>
  <dcterms:modified xsi:type="dcterms:W3CDTF">2023-03-28T10:32:40Z</dcterms:modified>
  <cp:revision>24</cp:revision>
  <dc:subject/>
  <dc:title>Фольклор в музыке русских композиторов</dc:title>
</cp:coreProperties>
</file>